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E21-4375-4226-B3A7-9286EF52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5E5-46C2-4FF5-90D7-4F339186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CA1-E002-413A-9432-E438CE39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0E6-F991-4B81-98ED-1E7F040E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390F-9906-470E-AFAA-B1667B71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3DD0-B463-4ED5-ADBC-F136F3DB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D2A5-8BEA-4BC2-8936-00D823C0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CAA9-A496-456D-BE9F-796D8A57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0894-01DF-40A5-9A30-9290759B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A462-FA28-44CB-AAEE-220EE987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F684-7BC5-424D-BF20-C09101E1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F65-69CC-4547-B5C9-885B5907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3E38-B180-4939-80F5-0012335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980E-A99C-49B8-8F51-B45EF4AC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23EC-ACBA-4D9A-B846-FAFCDA93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ADF9-1455-4845-81A9-357E2EBE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61EA-35B7-4842-BCA6-1A8AB53E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CAD7-BAB0-4D7A-930B-CCDFE6E8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6BFE-0705-4578-BBF0-FFE8168C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6A57-685A-432B-BAFF-539C592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C678-6C85-4EDF-B71C-7B3025D6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DF34-5A2E-4102-9228-2C124EA3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C5E-68A0-4ABE-A93F-9B66FA26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A372-5E25-45C3-9CC7-FB099A1E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66F5-2ED7-471E-8AF3-DAE21CE4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CD29-4F5E-44C9-8B45-734ED966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1FCD-850D-4D77-9E4B-CE70C822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C006-C3B2-4570-8D01-4BFB39D0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6775-C9C3-4BEF-9832-F11B6F79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6D47-A809-4247-9B3D-7C824CC3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0756C-9D79-4614-AAE8-3E3EA0CA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E7E61-0E7D-4EFA-B707-2BCB6131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7BBD-B26A-4344-9E74-62602B0C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46A-096B-4730-B7CD-68DEF13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4E6D-34EA-4C50-9DE9-AEDA569D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36EF-94A2-464C-A6A9-F86A0E03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BD8F-BBA4-4F2E-989A-607115CB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6682-96FB-4B8D-BDFD-C67E4387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20BD-1CE2-4F63-8627-7B1F8080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447C-A624-4F5D-AD12-1139974D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5E94-9995-4B2F-8BB7-F04F84CD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35DE-2C6A-45B7-9F29-898A3812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089A4-F1AB-47D8-98BC-B3602D4A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3DF9-738D-4EC4-B394-F35004C4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F5A-904A-42BE-9BDA-3E6A39CA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1EA8-1281-4E2C-BE59-F8DE607E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166C-522D-4756-BA09-F5547D9E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3FFB4-52E4-49E5-BDE5-715B8DA7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0AAD-8E39-40E6-B6E5-408DE47B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E605-8111-4708-A5DA-DBF24838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F2BBE-5205-4260-AE60-4614D476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87D3-E6C4-4183-8F41-BD047AC7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0579-7AFF-41DC-912E-0BB5076D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EAD17-267A-4873-ABE5-6ABEEE11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A5DAF-9F0B-4BDE-98B7-AD5409F8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CD6-AF71-4505-821C-ED73DB8D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7E6C-42DC-427A-8163-D468AA3C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A7C-21D9-4A47-81C8-6B513C81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11D-0E5E-49DC-97E4-249CF6E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B95-289D-46BC-A2B7-0C5BD50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1b587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25C8-4620-4392-8F23-E54B32FAB2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1b587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6406-44A8-479A-9DBC-A88A46309D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1b587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5D6A-DF4C-41BB-99C2-B77846679D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1b587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32323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630B-12BE-4010-8F14-80AE831826B7}" type="slidenum">
              <a:rPr b="0" lang="en-US" sz="16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1b587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f293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3912-9036-4D1D-90D4-D840169CA2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E USE OF A WOK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HANNAH JOHNSTONBAUGH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Franklin Gothic Book"/>
              </a:rPr>
              <a:t>A wok is a large frying pan with sloping sides, handles, and a lid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Franklin Gothic Book"/>
              </a:rPr>
              <a:t>They can be electric or sit on top of the stove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Franklin Gothic Book"/>
              </a:rPr>
              <a:t>How the wok is designed enables it to prepare stir-fries. Its size and shape allows it to cook the meat and vegetables and then move them toward or away from heat to help them cook evenly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Franklin Gothic Book"/>
              </a:rPr>
              <a:t>The most common use of a wok is to make stir-fry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8" name="Content Placeholder 4" descr=""/>
          <p:cNvPicPr/>
          <p:nvPr/>
        </p:nvPicPr>
        <p:blipFill>
          <a:blip r:embed="rId1"/>
          <a:stretch/>
        </p:blipFill>
        <p:spPr>
          <a:xfrm>
            <a:off x="4419720" y="1522440"/>
            <a:ext cx="1780920" cy="1781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IS A WOK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6891480" y="3733920"/>
            <a:ext cx="2252520" cy="128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4267080" y="3276720"/>
            <a:ext cx="2424240" cy="1612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tretch/>
        </p:blipFill>
        <p:spPr>
          <a:xfrm>
            <a:off x="6400800" y="914400"/>
            <a:ext cx="261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2:15:38Z</dcterms:created>
  <dc:creator>Hannah</dc:creator>
  <dc:description/>
  <dc:language>en-US</dc:language>
  <cp:lastModifiedBy>Hannah</cp:lastModifiedBy>
  <dcterms:modified xsi:type="dcterms:W3CDTF">2012-03-07T02:24:01Z</dcterms:modified>
  <cp:revision>1</cp:revision>
  <dc:subject/>
  <dc:title>The use of a wok</dc:title>
</cp:coreProperties>
</file>